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043-98C5-4775-9C42-3B6E1D5B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02C-BA5A-4F83-B85B-7574FA0E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2C5-41AD-44B5-BDE9-8110394F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7DF-7BEA-42D6-9003-F2AFF35E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578-BDE2-4A0A-ACA2-FCEAEB8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43C-44C0-4F67-B5A9-2EC5317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35E-C21A-4171-913F-45F829B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7CD-B6A4-4E8C-948E-83B2846C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B14-EEBA-4BC8-83B8-E510F1F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640-2788-48EF-8B0F-148FFBC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49D-0920-4929-A204-CEF95D0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CEB-5E0B-49B1-B67C-0D10AFF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AA6-4D63-4C08-82A0-3C7ED20B987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9 Môj drahý Otec nebes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drahý Otec nebesk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v nebi trón svoj kráľovsk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tom aj na mňa pamä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aždé dieťa s láskou db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tom aj na mňa pamä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aždé dieť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aždom vrabčekovi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celým tvorstvom stále bd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ieva krásou nežný kv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tvoril z lásky celý svet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ieva krásou nežný kv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tvoril z lásky cel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padne z mojej hlavič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ni len vlások maličk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torom on by neved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mňa má rád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poznať sm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torom on by neved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mňa má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om poznať sm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v srdci mojom prebý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a mi svojho darov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ďačnosti kráčam za ním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em mu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ďačnosti kráčam za ním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em mu deň čo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50:30Z</dcterms:modified>
  <cp:revision>80</cp:revision>
  <dc:subject/>
  <dc:title>Je veľký náš Pán, on slávy je Kráľ Nech do všetkých strán  spev vrúcnych znie chvál.</dc:title>
</cp:coreProperties>
</file>